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5636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636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5636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5636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5636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5636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5636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5636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5636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5636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5636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5636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5636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5636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5636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5636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5636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636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228600"/>
            <a:ext cx="8686800" cy="5638680"/>
          </a:xfrm>
          <a:prstGeom prst="roundRect">
            <a:avLst>
              <a:gd name="adj" fmla="val 1847"/>
            </a:avLst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22856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3276720"/>
            <a:ext cx="8077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4b6"/>
                </a:solidFill>
                <a:latin typeface="Arial"/>
              </a:rPr>
              <a:t>Matt Monjan</a:t>
            </a:r>
            <a:br>
              <a:rPr sz="2000"/>
            </a:br>
            <a:r>
              <a:rPr b="0" lang="en-US" sz="2000" spc="-1" strike="noStrike">
                <a:solidFill>
                  <a:srgbClr val="0064b6"/>
                </a:solidFill>
                <a:latin typeface="Arial"/>
              </a:rPr>
              <a:t>September 26,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ing a Photo S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4b6"/>
                </a:solidFill>
                <a:latin typeface="Arial"/>
              </a:rPr>
              <a:t>Pre-Requisites – We need static pictures for our story</a:t>
            </a:r>
            <a:endParaRPr b="0" lang="en-US" sz="28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 into Discovery Edu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ream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find the images that you want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those images and save it into a folder on your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Now Let’s Make Some Magic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3733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up your Photo Stor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gin a new 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the Next But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1467000"/>
            <a:ext cx="761760" cy="569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3886200" y="1523880"/>
            <a:ext cx="4952880" cy="36943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867280" y="3429000"/>
            <a:ext cx="99072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62920" y="4952880"/>
            <a:ext cx="99036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Importing Images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365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the Import But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navigate to the images that you want to im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the Next But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724280" y="3200400"/>
            <a:ext cx="4191120" cy="33559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4724280" y="228600"/>
            <a:ext cx="4191120" cy="3051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7162920" y="1676520"/>
            <a:ext cx="137160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Create a title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447920" y="1119240"/>
            <a:ext cx="609588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Adding your own Narration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3352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the Red Button to begin nar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nt! Type in a script of your narration first – then read it after hitting red but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886200" y="1295280"/>
            <a:ext cx="4648320" cy="3552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629400" y="2819520"/>
            <a:ext cx="45720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4343040" y="3886200"/>
            <a:ext cx="2514600" cy="1752480"/>
          </a:xfrm>
          <a:prstGeom prst="cloudCallout">
            <a:avLst>
              <a:gd name="adj1" fmla="val -64962"/>
              <a:gd name="adj2" fmla="val 777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scrip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Add in Music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3581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ither from your compu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create your own from Photo 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886200" y="990720"/>
            <a:ext cx="4648320" cy="34956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038480" y="1981080"/>
            <a:ext cx="129564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34120" y="1981080"/>
            <a:ext cx="12952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6172200" y="2362320"/>
            <a:ext cx="25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Finish your story</a:t>
            </a: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648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  Choose to save your Story to your compu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581280" y="1981080"/>
            <a:ext cx="5097600" cy="38196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581280" y="2819520"/>
            <a:ext cx="2667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5T16:32:32Z</dcterms:created>
  <dc:creator>Anthony Pappas</dc:creator>
  <dc:description/>
  <dc:language>en-US</dc:language>
  <cp:lastModifiedBy>MCPS</cp:lastModifiedBy>
  <dcterms:modified xsi:type="dcterms:W3CDTF">2007-09-26T16:24:17Z</dcterms:modified>
  <cp:revision>74</cp:revision>
  <dc:subject/>
  <dc:title>PowerPoint Presentation</dc:title>
</cp:coreProperties>
</file>