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wmf" ContentType="image/x-wmf"/>
  <Override PartName="/ppt/media/image12.gif" ContentType="image/gif"/>
  <Override PartName="/ppt/media/image22.gif" ContentType="image/gif"/>
  <Override PartName="/ppt/media/image20.gif" ContentType="image/gif"/>
  <Override PartName="/ppt/media/image6.wmf" ContentType="image/x-wmf"/>
  <Override PartName="/ppt/media/image17.wmf" ContentType="image/x-wmf"/>
  <Override PartName="/ppt/media/image16.gif" ContentType="image/gif"/>
  <Override PartName="/ppt/media/image15.gif" ContentType="image/gif"/>
  <Override PartName="/ppt/media/image7.gif" ContentType="image/gif"/>
  <Override PartName="/ppt/media/image18.wmf" ContentType="image/x-wmf"/>
  <Override PartName="/ppt/media/image1.png" ContentType="image/png"/>
  <Override PartName="/ppt/media/image19.gif" ContentType="image/gif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5276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2193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5276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35276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2193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2193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5276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35276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35276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2193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2193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5276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2193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35276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2193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5276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21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Suzanne We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0" y="1143000"/>
            <a:ext cx="7924680" cy="430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moph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71800" cy="2436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chews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788840" cy="145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8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514600" y="2438280"/>
            <a:ext cx="1600200" cy="152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5000" y="3809880"/>
            <a:ext cx="168912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ramond"/>
              </a:rPr>
              <a:t>homophone</a:t>
            </a:r>
            <a:endParaRPr b="0" lang="en-US" sz="72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71800" cy="24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withEffect" fill="hold" presetClass="path" presetID="6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Garamond"/>
              </a:rPr>
              <a:t>homophone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 has its own meaning and spelling, but shares the same sound.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2297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39040" y="1371240"/>
            <a:ext cx="2147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right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371600"/>
            <a:ext cx="2361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1366560" cy="179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1905120" cy="177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2248200" cy="172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705720" y="2438280"/>
            <a:ext cx="2057400" cy="19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knows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nos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19969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638680" y="2971800"/>
            <a:ext cx="2460600" cy="24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rod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road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2869920" cy="3057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3840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knight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90700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ramond"/>
              </a:rPr>
              <a:t>homophone</a:t>
            </a:r>
            <a:endParaRPr b="0" lang="en-US" sz="72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71800" cy="24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autoRev="1" nodeType="withEffect" fill="hold" presetClass="path" presetID="6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35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Garamond"/>
              </a:rPr>
              <a:t>homophone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 has its own meaning and spelling, but shares the same sound.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ramond"/>
              </a:rPr>
              <a:t>homophone</a:t>
            </a:r>
            <a:endParaRPr b="0" lang="en-US" sz="72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71800" cy="2436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4191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zz Up: Homophone Blues. Maryann Harman. 2007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streaming. 28 March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ttp://www.unitedstreaming.com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autoRev="1" nodeType="withEffect" fill="hold" presetClass="path" presetID="61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36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9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Garamond"/>
              </a:rPr>
              <a:t>homophone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 is a word that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Garamond"/>
              </a:rPr>
              <a:t>sounds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 like another word but i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Garamond"/>
              </a:rPr>
              <a:t>spelled differently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Garamond"/>
              </a:rPr>
              <a:t>Homophone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Two words that have the same sound.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6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6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Garamond"/>
              </a:rPr>
              <a:t>homophone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 has its own meaning and spelling, but shares the same sound.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blew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971800"/>
            <a:ext cx="2057400" cy="1905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504960" cy="17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wear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2779560" cy="281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2963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ramond"/>
              </a:rPr>
              <a:t>homophone</a:t>
            </a:r>
            <a:endParaRPr b="0" lang="en-US" sz="72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71800" cy="24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withEffect" fill="hold" presetClass="path" presetID="6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12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Garamond"/>
              </a:rPr>
              <a:t>homophone</a:t>
            </a:r>
            <a:r>
              <a:rPr b="0" lang="en-US" sz="5400" spc="-1" strike="noStrike">
                <a:solidFill>
                  <a:srgbClr val="000000"/>
                </a:solidFill>
                <a:latin typeface="AGaramond"/>
              </a:rPr>
              <a:t> has its own meaning and spelling, but shares the same sound.</a:t>
            </a:r>
            <a:endParaRPr b="0" lang="en-US" sz="5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clothes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57760" y="1219320"/>
            <a:ext cx="3929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aramond"/>
              </a:rPr>
              <a:t>close</a:t>
            </a:r>
            <a:endParaRPr b="0" lang="en-US" sz="44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309760" cy="289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23148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43:25Z</dcterms:created>
  <dc:creator>swesp</dc:creator>
  <dc:description/>
  <dc:language>en-US</dc:language>
  <cp:lastModifiedBy> Suzanne Wesp</cp:lastModifiedBy>
  <dcterms:modified xsi:type="dcterms:W3CDTF">2009-04-21T07:43:25Z</dcterms:modified>
  <cp:revision>24</cp:revision>
  <dc:subject/>
  <dc:title>Homophones</dc:title>
</cp:coreProperties>
</file>