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2560" cy="685656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6280" y="534960"/>
            <a:ext cx="79560" cy="5865840"/>
          </a:xfrm>
          <a:custGeom>
            <a:avLst/>
            <a:gdLst/>
            <a:ahLst/>
            <a:rect l="l" t="t" r="r" b="b"/>
            <a:pathLst>
              <a:path w="57" h="3695">
                <a:moveTo>
                  <a:pt x="0" y="3694"/>
                </a:moveTo>
                <a:lnTo>
                  <a:pt x="0" y="0"/>
                </a:lnTo>
                <a:lnTo>
                  <a:pt x="56" y="0"/>
                </a:lnTo>
                <a:lnTo>
                  <a:pt x="56" y="3694"/>
                </a:lnTo>
                <a:lnTo>
                  <a:pt x="0" y="3694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852040" y="534960"/>
            <a:ext cx="79200" cy="5865840"/>
          </a:xfrm>
          <a:custGeom>
            <a:avLst/>
            <a:gdLst/>
            <a:ahLst/>
            <a:rect l="l" t="t" r="r" b="b"/>
            <a:pathLst>
              <a:path w="56" h="3695">
                <a:moveTo>
                  <a:pt x="0" y="3694"/>
                </a:moveTo>
                <a:lnTo>
                  <a:pt x="0" y="0"/>
                </a:lnTo>
                <a:lnTo>
                  <a:pt x="55" y="0"/>
                </a:lnTo>
                <a:lnTo>
                  <a:pt x="55" y="3694"/>
                </a:lnTo>
                <a:lnTo>
                  <a:pt x="0" y="3694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2560" cy="685656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6280" y="534960"/>
            <a:ext cx="79560" cy="5865840"/>
          </a:xfrm>
          <a:custGeom>
            <a:avLst/>
            <a:gdLst/>
            <a:ahLst/>
            <a:rect l="l" t="t" r="r" b="b"/>
            <a:pathLst>
              <a:path w="57" h="3695">
                <a:moveTo>
                  <a:pt x="0" y="3694"/>
                </a:moveTo>
                <a:lnTo>
                  <a:pt x="0" y="0"/>
                </a:lnTo>
                <a:lnTo>
                  <a:pt x="56" y="0"/>
                </a:lnTo>
                <a:lnTo>
                  <a:pt x="56" y="3694"/>
                </a:lnTo>
                <a:lnTo>
                  <a:pt x="0" y="3694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52040" y="534960"/>
            <a:ext cx="79200" cy="5865840"/>
          </a:xfrm>
          <a:custGeom>
            <a:avLst/>
            <a:gdLst/>
            <a:ahLst/>
            <a:rect l="l" t="t" r="r" b="b"/>
            <a:pathLst>
              <a:path w="56" h="3695">
                <a:moveTo>
                  <a:pt x="0" y="3694"/>
                </a:moveTo>
                <a:lnTo>
                  <a:pt x="0" y="0"/>
                </a:lnTo>
                <a:lnTo>
                  <a:pt x="55" y="0"/>
                </a:lnTo>
                <a:lnTo>
                  <a:pt x="55" y="3694"/>
                </a:lnTo>
                <a:lnTo>
                  <a:pt x="0" y="3694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odelschools.org/mspmathsci/mathlessons.html" TargetMode="External"/><Relationship Id="rId2" Type="http://schemas.openxmlformats.org/officeDocument/2006/relationships/hyperlink" Target="http://www.hcbe.net/itc/powerpoints/" TargetMode="External"/><Relationship Id="rId3" Type="http://schemas.openxmlformats.org/officeDocument/2006/relationships/hyperlink" Target="http://www.worldofteaching.com/index.html" TargetMode="External"/><Relationship Id="rId4" Type="http://schemas.openxmlformats.org/officeDocument/2006/relationships/hyperlink" Target="http://www.basd.net/elem/Math/elementary_math_power_points.htm" TargetMode="External"/><Relationship Id="rId5" Type="http://schemas.openxmlformats.org/officeDocument/2006/relationships/hyperlink" Target="http://mathbits.com/mathbits/ppt/powerpoint.htm" TargetMode="External"/><Relationship Id="rId6" Type="http://schemas.openxmlformats.org/officeDocument/2006/relationships/hyperlink" Target="http://www.pppst.com/" TargetMode="External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ptpalooza.net/" TargetMode="External"/><Relationship Id="rId2" Type="http://schemas.openxmlformats.org/officeDocument/2006/relationships/hyperlink" Target="http://www.pptpalooza.net/" TargetMode="External"/><Relationship Id="rId3" Type="http://schemas.openxmlformats.org/officeDocument/2006/relationships/hyperlink" Target="http://www.pptpalooza.net/" TargetMode="External"/><Relationship Id="rId4" Type="http://schemas.openxmlformats.org/officeDocument/2006/relationships/hyperlink" Target="http://www.kellyskindergarten.com/PowerPoints/powerpoints.htm" TargetMode="External"/><Relationship Id="rId5" Type="http://schemas.openxmlformats.org/officeDocument/2006/relationships/hyperlink" Target="http://www.kellyskindergarten.com/PowerPoints/powerpoints.htm" TargetMode="External"/><Relationship Id="rId6" Type="http://schemas.openxmlformats.org/officeDocument/2006/relationships/hyperlink" Target="http://www.virtualclassroom.net/main.htm#world%20history%20powerpoint%20presentations" TargetMode="External"/><Relationship Id="rId7" Type="http://schemas.openxmlformats.org/officeDocument/2006/relationships/hyperlink" Target="http://www.pasadenaisd.org/teachertoolbox/PPts/ppt_elem.htm" TargetMode="External"/><Relationship Id="rId8" Type="http://schemas.openxmlformats.org/officeDocument/2006/relationships/hyperlink" Target="http://www.pasadenaisd.org/teachertoolbox/PPts/ppt_elem.htm" TargetMode="External"/><Relationship Id="rId9" Type="http://schemas.openxmlformats.org/officeDocument/2006/relationships/hyperlink" Target="http://www.nebo.edu/misc/learning_resources/ppt/" TargetMode="External"/><Relationship Id="rId10" Type="http://schemas.openxmlformats.org/officeDocument/2006/relationships/hyperlink" Target="http://www.nebo.edu/misc/learning_resources/ppt/" TargetMode="External"/><Relationship Id="rId11" Type="http://schemas.openxmlformats.org/officeDocument/2006/relationships/hyperlink" Target="http://www.nebo.edu/misc/learning_resources/ppt/" TargetMode="External"/><Relationship Id="rId12" Type="http://schemas.openxmlformats.org/officeDocument/2006/relationships/hyperlink" Target="http://tpduggan.tripod.com/powerp.html" TargetMode="External"/><Relationship Id="rId13" Type="http://schemas.openxmlformats.org/officeDocument/2006/relationships/hyperlink" Target="http://tpduggan.tripod.com/powerp.html" TargetMode="External"/><Relationship Id="rId14" Type="http://schemas.openxmlformats.org/officeDocument/2006/relationships/hyperlink" Target="http://www.musiceducationmadness.com/powerpoints.shtml" TargetMode="External"/><Relationship Id="rId15" Type="http://schemas.openxmlformats.org/officeDocument/2006/relationships/hyperlink" Target="http://www.musiceducationmadness.com/powerpoints.shtml" TargetMode="External"/><Relationship Id="rId1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teacherxpress.com/f.php?gid=10&amp;id=26" TargetMode="External"/><Relationship Id="rId2" Type="http://schemas.openxmlformats.org/officeDocument/2006/relationships/hyperlink" Target="http://free-ppt.com/" TargetMode="External"/><Relationship Id="rId3" Type="http://schemas.openxmlformats.org/officeDocument/2006/relationships/hyperlink" Target="http://www.templatesmadesimple.com/" TargetMode="External"/><Relationship Id="rId4" Type="http://schemas.openxmlformats.org/officeDocument/2006/relationships/hyperlink" Target="http://www.soniacoleman.com/templates.htm" TargetMode="External"/><Relationship Id="rId5" Type="http://schemas.openxmlformats.org/officeDocument/2006/relationships/hyperlink" Target="http://www.presentationhelper.co.uk/free_powerpoint_template_builder.htm" TargetMode="External"/><Relationship Id="rId6" Type="http://schemas.openxmlformats.org/officeDocument/2006/relationships/hyperlink" Target="http://www.christianppt.com/templatesthemes/0025.html" TargetMode="External"/><Relationship Id="rId7" Type="http://schemas.openxmlformats.org/officeDocument/2006/relationships/hyperlink" Target="http://www.templateswise.com/" TargetMode="External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poweredtemplates.com/free-ppt-powerpoint-templates.html" TargetMode="External"/><Relationship Id="rId2" Type="http://schemas.openxmlformats.org/officeDocument/2006/relationships/hyperlink" Target="http://www.gamequarium.com/powerpoint.html" TargetMode="External"/><Relationship Id="rId3" Type="http://schemas.openxmlformats.org/officeDocument/2006/relationships/hyperlink" Target="http://teach.fcps.net/trt4/FETC03/fun2.htm" TargetMode="External"/><Relationship Id="rId4" Type="http://schemas.openxmlformats.org/officeDocument/2006/relationships/hyperlink" Target="http://jc-schools.net/tutorials/PPT-games/" TargetMode="External"/><Relationship Id="rId5" Type="http://schemas.openxmlformats.org/officeDocument/2006/relationships/hyperlink" Target="http://www.murray.k12.ga.us/teacher/kara%20leonard/Mini%20T%27s/Games/Games.htm" TargetMode="External"/><Relationship Id="rId6" Type="http://schemas.openxmlformats.org/officeDocument/2006/relationships/hyperlink" Target="http://facstaff.uww.edu/jonesd/games/index.html" TargetMode="External"/><Relationship Id="rId7" Type="http://schemas.openxmlformats.org/officeDocument/2006/relationships/hyperlink" Target="http://teach.fcps.net/trt14/Power%20Point%20Games/power_point_games.htm" TargetMode="External"/><Relationship Id="rId8" Type="http://schemas.openxmlformats.org/officeDocument/2006/relationships/hyperlink" Target="http://teach.fcps.net/trt10/PowerPoint.htm#temp" TargetMode="External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swesp@stedward.com" TargetMode="External"/><Relationship Id="rId2" Type="http://schemas.openxmlformats.org/officeDocument/2006/relationships/hyperlink" Target="http://rcbotech.wikispaces.com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L:/NCEA%202009%20presentation/How%20do%20those%20Polar%20Animals%20Keep%20Warm2.ppt" TargetMode="External"/><Relationship Id="rId2" Type="http://schemas.openxmlformats.org/officeDocument/2006/relationships/hyperlink" Target="file:///L:/NCEA%202009%20presentation/Tidepools/Tide%20Pools.ppt" TargetMode="External"/><Relationship Id="rId3" Type="http://schemas.openxmlformats.org/officeDocument/2006/relationships/hyperlink" Target="file:///L:/NCEA%202009%20presentation/Science%20Luschei%20A..ppt" TargetMode="External"/><Relationship Id="rId4" Type="http://schemas.openxmlformats.org/officeDocument/2006/relationships/hyperlink" Target="file:///L:/NCEA%202009%20presentation/25th%20Amendment%20project.ppt" TargetMode="External"/><Relationship Id="rId5" Type="http://schemas.openxmlformats.org/officeDocument/2006/relationships/hyperlink" Target="file:///L:/NCEA%202009%20presentation/Luschei%20S.%20DC.ppt" TargetMode="Externa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L:/NCEA%202009%20presentation/Cell/cell.ppt" TargetMode="External"/><Relationship Id="rId2" Type="http://schemas.openxmlformats.org/officeDocument/2006/relationships/hyperlink" Target="file:///L:/NCEA%202009%20presentation/Homophones/Homophones%20Song%20and%20show.ppt" TargetMode="External"/><Relationship Id="rId3" Type="http://schemas.openxmlformats.org/officeDocument/2006/relationships/hyperlink" Target="file:///L:/Powerpoint/five%20senses.ppt" TargetMode="External"/><Relationship Id="rId4" Type="http://schemas.openxmlformats.org/officeDocument/2006/relationships/hyperlink" Target="file:///L:/Powerpoint/Egypt.ppt" TargetMode="External"/><Relationship Id="rId5" Type="http://schemas.openxmlformats.org/officeDocument/2006/relationships/hyperlink" Target="file:///L:/Powerpoint/foresbiome.ppt" TargetMode="External"/><Relationship Id="rId6" Type="http://schemas.openxmlformats.org/officeDocument/2006/relationships/hyperlink" Target="file:///L:/Powerpoint/5-sstestreview.ppt" TargetMode="External"/><Relationship Id="rId7" Type="http://schemas.openxmlformats.org/officeDocument/2006/relationships/hyperlink" Target="file:///L:/Powerpoint/Fractions%20I.ppt" TargetMode="External"/><Relationship Id="rId8" Type="http://schemas.openxmlformats.org/officeDocument/2006/relationships/hyperlink" Target="file:///L:/Powerpoint/thksgving_jeo.ppt" TargetMode="External"/><Relationship Id="rId9" Type="http://schemas.openxmlformats.org/officeDocument/2006/relationships/hyperlink" Target="file:///L:/Powerpoint/voyages_adventures.ppt" TargetMode="External"/><Relationship Id="rId10" Type="http://schemas.openxmlformats.org/officeDocument/2006/relationships/hyperlink" Target="file:///L:/NCEA%202009%20presentation/Facts%20of%2012/You%20Can%20Multiply%20by%2012.ppt" TargetMode="External"/><Relationship Id="rId11" Type="http://schemas.openxmlformats.org/officeDocument/2006/relationships/hyperlink" Target="file:///L:/NCEA%202009%20presentation/Solar%20System/Solar%20System1.ppt" TargetMode="External"/><Relationship Id="rId12" Type="http://schemas.openxmlformats.org/officeDocument/2006/relationships/hyperlink" Target="file:///L:/NCEA%202009%20presentation/Sea/Sea%20Animal%20Videos.ppt" TargetMode="External"/><Relationship Id="rId1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Make a Powerful Point</a:t>
            </a:r>
            <a:br>
              <a:rPr sz="4000"/>
            </a:b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Tips, Tricks &amp; Uses of PowerPoint 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in the Classroom</a:t>
            </a:r>
            <a:endParaRPr b="1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479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zanne Wesp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t. Edward the Confessor Parish Schoo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Dana Point, C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wesp@stedward.com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NCEA April 2009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naheim, C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Sound</a:t>
            </a: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ert</a:t>
            </a:r>
            <a:r>
              <a:rPr b="0" lang="en-US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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ovies &amp; Sound</a:t>
            </a:r>
            <a:r>
              <a:rPr b="0" lang="en-US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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und from Clip Organizer, File, CD or record a sound (little icon will appear on slide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lect sound to play automatically or when clicke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ke sure sound file is saved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 the same folder as the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esentation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und can be loope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con can be hidde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486400" y="2743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53096" t="20348" r="30595" b="56259"/>
          <a:stretch/>
        </p:blipFill>
        <p:spPr>
          <a:xfrm>
            <a:off x="6248520" y="3733920"/>
            <a:ext cx="2190600" cy="251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uzanne Wesp 2009</a:t>
            </a:r>
          </a:p>
        </p:txBody>
      </p:sp>
    </p:spTree>
  </p:cSld>
  <p:transition spd="slow">
    <p:split dir="out" orient="vert"/>
  </p:transition>
  <p:timing>
    <p:tnLst>
      <p:par>
        <p:cTn id="183" dur="indefinite" restart="never" nodeType="tmRoot">
          <p:childTnLst>
            <p:seq>
              <p:cTn id="184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100416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Video</a:t>
            </a: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ownload video to the same folder as presenta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yperlink vs embedde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yperlink plays video in media player window – Windows Media or Quicktim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mbedded can play full scree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uzanne Wesp 2009</a:t>
            </a:r>
          </a:p>
        </p:txBody>
      </p:sp>
    </p:spTree>
  </p:cSld>
  <p:transition spd="slow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Why hyperlink video?</a:t>
            </a: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ords or images become link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o open in a separate media window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o be able to use player controls such as Stop, Pause, and Volum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uzanne Wesp 2009</a:t>
            </a:r>
          </a:p>
        </p:txBody>
      </p:sp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Why embed video?</a:t>
            </a: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an play automatically or when clicke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an play full scree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ides player control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an add text cues for video on scree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asier naviga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uzanne Wesp 2009</a:t>
            </a:r>
          </a:p>
        </p:txBody>
      </p:sp>
    </p:spTree>
  </p:cSld>
  <p:transition spd="slow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Resources</a:t>
            </a: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owerPoint websit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ttp://www.pppst.com/socialstudies.htm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ttp://jc-schools.net/ppt.htm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ttp://classroom.jc-schools.net/la/activities/pptresources.htm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ttp://lessonplancentral.com/lessons/Powerpoint_Presentations/index.ht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ttp://www.graves.k12.ky.us/powerpoints/elementary/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Comic Sans MS"/>
                <a:hlinkClick r:id="rId1"/>
              </a:rPr>
              <a:t>http://www.modelschools.org/mspmathsci/mathlessons.htm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Comic Sans MS"/>
                <a:hlinkClick r:id="rId2"/>
              </a:rPr>
              <a:t>http://www.hcbe.net/itc/powerpoints/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Comic Sans MS"/>
                <a:hlinkClick r:id="rId3"/>
              </a:rPr>
              <a:t>http://www.worldofteaching.com/index.htm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Comic Sans MS"/>
                <a:hlinkClick r:id="rId4"/>
              </a:rPr>
              <a:t>http://www.basd.net/elem/Math/elementary_math_power_points.htm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Comic Sans MS"/>
                <a:hlinkClick r:id="rId5"/>
              </a:rPr>
              <a:t>http://mathbits.com/mathbits/ppt/powerpoint.htm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Comic Sans MS"/>
                <a:hlinkClick r:id="rId6"/>
              </a:rPr>
              <a:t>http://www.pppst.com/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uzanne We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More Resources</a:t>
            </a: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Comic Sans MS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Comic Sans MS"/>
                <a:hlinkClick r:id="rId2"/>
              </a:rPr>
              <a:t>www.pptpalooza.net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Comic Sans MS"/>
                <a:hlinkClick r:id="rId3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Comic Sans MS"/>
                <a:hlinkClick r:id="rId4"/>
              </a:rPr>
              <a:t>http://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Comic Sans MS"/>
                <a:hlinkClick r:id="rId5"/>
              </a:rPr>
              <a:t>www.kellyskindergarten.com/PowerPoints/powerpoints.htm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Comic Sans MS"/>
                <a:hlinkClick r:id="rId6"/>
              </a:rPr>
              <a:t>http://www.virtualclassroom.net/main.htm#world%20history%20powerpoint%20presentations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Comic Sans MS"/>
                <a:hlinkClick r:id="rId7"/>
              </a:rPr>
              <a:t>http://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Comic Sans MS"/>
                <a:hlinkClick r:id="rId8"/>
              </a:rPr>
              <a:t>www.pasadenaisd.org/teachertoolbox/PPts/ppt_elem.htm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Comic Sans MS"/>
                <a:hlinkClick r:id="rId9"/>
              </a:rPr>
              <a:t>http://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Comic Sans MS"/>
                <a:hlinkClick r:id="rId10"/>
              </a:rPr>
              <a:t>www.nebo.edu/misc/learning_resources/ppt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Comic Sans MS"/>
                <a:hlinkClick r:id="rId11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Comic Sans MS"/>
                <a:hlinkClick r:id="rId12"/>
              </a:rPr>
              <a:t>http://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Comic Sans MS"/>
                <a:hlinkClick r:id="rId13"/>
              </a:rPr>
              <a:t>tpduggan.tripod.com/powerp.html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(Spanish PowerPoints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Comic Sans MS"/>
                <a:hlinkClick r:id="rId14"/>
              </a:rPr>
              <a:t>http://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Comic Sans MS"/>
                <a:hlinkClick r:id="rId15"/>
              </a:rPr>
              <a:t>www.musiceducationmadness.com/powerpoints.shtml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http://www.lexington1.net/technology/?page=instruct/powerpoint.htm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http://www.kidinfo.com/Powerpoints.htm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http://www.edzone.net/~mwestern/funppt.html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http://catholicfaitheducation.blogspot.com/2006/02/power-point-presentations-online.html  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http://biblestudy.pppst.com/churches/catholic.html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uzanne We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More Resources</a:t>
            </a: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ree background templat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ttp://www.brainybetty.com/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ttp://www.graphicsland.com/powerpoint-templates.ht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ttp://www.brainybetty.com/K_to_12_powerpoint_templates.ht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Comic Sans MS"/>
                <a:hlinkClick r:id="rId1"/>
              </a:rPr>
              <a:t>http://www.teacherxpress.com/f.php?gid=10&amp;id=26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Comic Sans MS"/>
                <a:hlinkClick r:id="rId2"/>
              </a:rPr>
              <a:t>http://free-ppt.com/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Comic Sans MS"/>
                <a:hlinkClick r:id="rId3"/>
              </a:rPr>
              <a:t>http://www.templatesmadesimple.com/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Comic Sans MS"/>
                <a:hlinkClick r:id="rId4"/>
              </a:rPr>
              <a:t>http://www.soniacoleman.com/templates.htm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Comic Sans MS"/>
                <a:hlinkClick r:id="rId5"/>
              </a:rPr>
              <a:t>http://www.presentationhelper.co.uk/free_powerpoint_template_builder.htm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Comic Sans MS"/>
                <a:hlinkClick r:id="rId6"/>
              </a:rPr>
              <a:t>http://www.christianppt.com/templatesthemes/0025.htm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Comic Sans MS"/>
                <a:hlinkClick r:id="rId7"/>
              </a:rPr>
              <a:t>http://www.templateswise.com/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uzanne We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Even More Resources</a:t>
            </a: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owerPoint game templat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ttp://homepages.ius.edu/DSCHWEI2/handouts/powerpt/gamelinks.ht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Comic Sans MS"/>
                <a:hlinkClick r:id="rId1"/>
              </a:rPr>
              <a:t>http://www.poweredtemplates.com/free-ppt-powerpoint-templates.htm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Comic Sans MS"/>
                <a:hlinkClick r:id="rId2"/>
              </a:rPr>
              <a:t>http://www.gamequarium.com/powerpoint.htm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Comic Sans MS"/>
                <a:hlinkClick r:id="rId3"/>
              </a:rPr>
              <a:t>http://teach.fcps.net/trt4/FETC03/fun2.htm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Comic Sans MS"/>
                <a:hlinkClick r:id="rId4"/>
              </a:rPr>
              <a:t>http://jc-schools.net/tutorials/PPT-games/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Comic Sans MS"/>
                <a:hlinkClick r:id="rId5"/>
              </a:rPr>
              <a:t>http://www.murray.k12.ga.us/teacher/kara%20leonard/Mini%20T%27s/Games/Games.htm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Comic Sans MS"/>
                <a:hlinkClick r:id="rId6"/>
              </a:rPr>
              <a:t>http://facstaff.uww.edu/jonesd/games/index.html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Comic Sans MS"/>
                <a:hlinkClick r:id="rId7"/>
              </a:rPr>
              <a:t>http://teach.fcps.net/trt14/Power%20Point%20Games/power_point_games.htm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Comic Sans MS"/>
                <a:hlinkClick r:id="rId8"/>
              </a:rPr>
              <a:t>http://teach.fcps.net/trt10/PowerPoint.htm#temp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uzanne We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8380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Comic Sans MS"/>
                <a:hlinkClick r:id="rId1"/>
              </a:rPr>
              <a:t>swesp@stedward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Comic Sans MS"/>
                <a:hlinkClick r:id="rId2"/>
              </a:rPr>
              <a:t>http://rcbotech.wikispaces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uzanne We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Using PowerPoint in the Classroom</a:t>
            </a:r>
            <a:endParaRPr b="1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eacher us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t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troduction of materia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view of material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Quiz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tudent us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each other students about a topic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ummarize information learne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uzanne Wesp 2009</a:t>
            </a: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Flat PowerPoint</a:t>
            </a: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petition of facts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ot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o more than a textbook enlarge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523880" y="4952880"/>
            <a:ext cx="1212840" cy="1424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095880" y="5105520"/>
            <a:ext cx="1581120" cy="122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uzanne Wesp 2009</a:t>
            </a:r>
          </a:p>
        </p:txBody>
      </p:sp>
    </p:spTree>
  </p:cSld>
  <p:transition spd="slow"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4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Interactive PowerPoint</a:t>
            </a: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volves multimedi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oes beyond a textbook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ngages student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kes learning more interesting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657600" y="4952880"/>
            <a:ext cx="1808280" cy="142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uzanne Wesp 2009</a:t>
            </a:r>
          </a:p>
        </p:txBody>
      </p:sp>
    </p:spTree>
  </p:cSld>
  <p:transition spd="med"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6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6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6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6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6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6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6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6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6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6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Student Examples</a:t>
            </a: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Comic Sans MS"/>
                <a:hlinkClick r:id="rId1"/>
              </a:rPr>
              <a:t>Polar Animal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Comic Sans MS"/>
                <a:hlinkClick r:id="rId2"/>
              </a:rPr>
              <a:t>Tidepool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Comic Sans MS"/>
                <a:hlinkClick r:id="rId3"/>
              </a:rPr>
              <a:t>Plant Growth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Comic Sans MS"/>
                <a:hlinkClick r:id="rId4"/>
              </a:rPr>
              <a:t>Amendmen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Comic Sans MS"/>
                <a:hlinkClick r:id="rId5"/>
              </a:rPr>
              <a:t>DC Scrapbook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uzanne Wesp 2009</a:t>
            </a: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Teacher Examples</a:t>
            </a: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Comic Sans MS"/>
                <a:hlinkClick r:id="rId1"/>
              </a:rPr>
              <a:t>The Cel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Comic Sans MS"/>
                <a:hlinkClick r:id="rId2"/>
              </a:rPr>
              <a:t>Homophon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Comic Sans MS"/>
                <a:hlinkClick r:id="rId3"/>
              </a:rPr>
              <a:t>5 Sens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Comic Sans MS"/>
                <a:hlinkClick r:id="rId4"/>
              </a:rPr>
              <a:t>Egyp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Comic Sans MS"/>
                <a:hlinkClick r:id="rId5"/>
              </a:rPr>
              <a:t>Biom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Comic Sans MS"/>
                <a:hlinkClick r:id="rId6"/>
              </a:rPr>
              <a:t>Basebal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Comic Sans MS"/>
                <a:hlinkClick r:id="rId7"/>
              </a:rPr>
              <a:t>Fractio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Comic Sans MS"/>
                <a:hlinkClick r:id="rId8"/>
              </a:rPr>
              <a:t>Thanksgiv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Comic Sans MS"/>
                <a:hlinkClick r:id="rId9"/>
              </a:rPr>
              <a:t>Voyag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Comic Sans MS"/>
                <a:hlinkClick r:id="rId10"/>
              </a:rPr>
              <a:t>Facts of 12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Comic Sans MS"/>
                <a:hlinkClick r:id="rId11"/>
              </a:rPr>
              <a:t>Solar Syste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Comic Sans MS"/>
                <a:hlinkClick r:id="rId12"/>
              </a:rPr>
              <a:t>The Se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uzanne Wesp 2009</a:t>
            </a: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How Do I Do That?</a:t>
            </a: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ransition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imation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oun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ideo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324480" y="2362320"/>
            <a:ext cx="1828800" cy="1562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114800" y="4724280"/>
            <a:ext cx="1554120" cy="120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uzanne Wesp 2009</a:t>
            </a:r>
          </a:p>
        </p:txBody>
      </p:sp>
    </p:spTree>
  </p:cSld>
  <p:transition spd="slow">
    <p:blinds dir="ver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Transitions</a:t>
            </a: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ay a slide background appear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 consisten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eep it simpl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lide Show </a:t>
            </a:r>
            <a:r>
              <a:rPr b="0" lang="en-US" sz="3200" spc="-1" strike="noStrike">
                <a:solidFill>
                  <a:srgbClr val="ffffff"/>
                </a:solidFill>
                <a:latin typeface="Wingdings 3"/>
                <a:ea typeface="Wingdings 3"/>
              </a:rPr>
              <a:t>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lide Transition</a:t>
            </a:r>
            <a:r>
              <a:rPr b="0" lang="en-US" sz="3200" spc="-1" strike="noStrike">
                <a:solidFill>
                  <a:srgbClr val="ffffff"/>
                </a:solidFill>
                <a:latin typeface="Wingdings 3"/>
                <a:ea typeface="Wingdings 3"/>
              </a:rPr>
              <a:t>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ect transition</a:t>
            </a:r>
            <a:r>
              <a:rPr b="0" lang="en-US" sz="3200" spc="-1" strike="noStrike">
                <a:solidFill>
                  <a:srgbClr val="ffffff"/>
                </a:solidFill>
                <a:latin typeface="Wingdings 3"/>
                <a:ea typeface="Wingdings 3"/>
              </a:rPr>
              <a:t>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ect speed and/or sound</a:t>
            </a:r>
            <a:r>
              <a:rPr b="0" lang="en-US" sz="3200" spc="-1" strike="noStrike">
                <a:solidFill>
                  <a:srgbClr val="ffffff"/>
                </a:solidFill>
                <a:latin typeface="Wingdings 3"/>
                <a:ea typeface="Wingdings 3"/>
              </a:rPr>
              <a:t>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vance on mouse click or automaticall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uzanne Wesp 2009</a:t>
            </a:r>
          </a:p>
        </p:txBody>
      </p:sp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Animations</a:t>
            </a: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text and images appear on the slid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Keep it simpl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you don’t animate an object, it will appear as part of the background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lide Show</a:t>
            </a:r>
            <a:r>
              <a:rPr b="0" lang="en-US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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ustom Animation</a:t>
            </a:r>
            <a:r>
              <a:rPr b="0" lang="en-US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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dd Effect</a:t>
            </a:r>
            <a:r>
              <a:rPr b="0" lang="en-US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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lect when to animate, direction, spee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ip: You must remove an effect. It does not replace it if you change your mind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uzanne Wesp 2009</a:t>
            </a:r>
          </a:p>
        </p:txBody>
      </p:sp>
    </p:spTree>
  </p:cSld>
  <p:transition spd="slow">
    <p:fade thruBlk="true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06:58:17Z</dcterms:created>
  <dc:creator> Suzanne Wesp</dc:creator>
  <dc:description/>
  <dc:language>en-US</dc:language>
  <cp:lastModifiedBy> Suzanne Wesp</cp:lastModifiedBy>
  <dcterms:modified xsi:type="dcterms:W3CDTF">2009-04-21T06:52:23Z</dcterms:modified>
  <cp:revision>20</cp:revision>
  <dc:subject/>
  <dc:title>Make a Powerful Point Tips,Tricks &amp; Uses of PowerPoint in the Classroom</dc:title>
</cp:coreProperties>
</file>