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esenter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Date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86400" y="762120"/>
            <a:ext cx="3657600" cy="4495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066680"/>
            <a:ext cx="3429000" cy="386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create special transitions between segments or pictures, click “Tools” then “Video transitions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re you will have a variety of options such as dissolve, checkerboard, page turn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en you find the desired effect, drag and drop in-between the 2 seg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4038120"/>
            <a:ext cx="457200" cy="1676520"/>
          </a:xfrm>
          <a:prstGeom prst="up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128520" y="0"/>
            <a:ext cx="94010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228600" y="5715000"/>
            <a:ext cx="96012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reate picture slide show, drag and drop all the selected images in the program.  To make a picture display for a longer amount of time, grab hold of the side of the image in the timeline and stretch it out.  Add transitions and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1814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47600" y="0"/>
            <a:ext cx="94392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38480" y="685800"/>
            <a:ext cx="5105520" cy="472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447920"/>
            <a:ext cx="4648320" cy="312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would like to stop and resume editing later, click “File” “Save Project”  This will allow you to save it as a “Windows Movie Maker File” so that you can make change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are finished, click “File” “Save as Movie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“Save Project” several times throughout your editing process to ensure that you do not los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828800"/>
            <a:ext cx="1676520" cy="304920"/>
          </a:xfrm>
          <a:prstGeom prst="leftArrow">
            <a:avLst>
              <a:gd name="adj1" fmla="val 50000"/>
              <a:gd name="adj2" fmla="val 13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143000"/>
            <a:ext cx="1676520" cy="304920"/>
          </a:xfrm>
          <a:prstGeom prst="leftArrow">
            <a:avLst>
              <a:gd name="adj1" fmla="val 50000"/>
              <a:gd name="adj2" fmla="val 13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3880" y="685800"/>
            <a:ext cx="533520" cy="914400"/>
          </a:xfrm>
          <a:custGeom>
            <a:avLst/>
            <a:gdLst>
              <a:gd name="textAreaLeft" fmla="*/ 153000 w 533520"/>
              <a:gd name="textAreaRight" fmla="*/ 457200 w 53352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143000"/>
            <a:ext cx="3733920" cy="3429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44792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licking on the “Tasks” button you will be able to view a variety of options for you to begin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10080" y="685800"/>
            <a:ext cx="373392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9907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Import video” “Import pictures” or simply drag and drop your media into the “Collection”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0080" y="685800"/>
            <a:ext cx="373392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6765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dit your movie, drag and drop the media to the timeline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1447560" y="3429000"/>
            <a:ext cx="2590560" cy="4572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0" y="914400"/>
            <a:ext cx="3657600" cy="3809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219320"/>
            <a:ext cx="3429000" cy="3210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lete certain sections of the movie, move the blue “scrubber” line to the desired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“Ctrl L” or from the menu choose “Clip” then “Spl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0" y="914400"/>
            <a:ext cx="3657600" cy="3809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1066680"/>
            <a:ext cx="3429000" cy="346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movie has now been segmented into 2 different pa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it the clip again at the desired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ready to delete. Click on the segment you wish to take out and hit delete on your key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563868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876920" y="533520"/>
            <a:ext cx="42670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371600"/>
            <a:ext cx="3429000" cy="224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ute the audio, highlight the cl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Clip” “Audio” and then “Mu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for each segment you want m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85080" y="304560"/>
            <a:ext cx="609840" cy="762120"/>
          </a:xfrm>
          <a:prstGeom prst="upArrow">
            <a:avLst>
              <a:gd name="adj1" fmla="val 50000"/>
              <a:gd name="adj2" fmla="val 312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0" y="914400"/>
            <a:ext cx="3657600" cy="3809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1174680"/>
            <a:ext cx="3429000" cy="28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narrate your timeline, click “Tools” then “Narrate Timelin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ready to begin click “Start Narr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you are finished save the nar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572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86400" y="914400"/>
            <a:ext cx="3657600" cy="426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1174680"/>
            <a:ext cx="3429000" cy="346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reate special effects, click “Tools” then “Video effe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you will have a variety of options such as sepia, film age, smud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find the desired effect, drag and drop in on top of the chosen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3809880" y="4038120"/>
            <a:ext cx="457200" cy="1676520"/>
          </a:xfrm>
          <a:prstGeom prst="up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Jannita Demian</cp:lastModifiedBy>
  <dcterms:modified xsi:type="dcterms:W3CDTF">2007-01-19T19:19:12Z</dcterms:modified>
  <cp:revision>29</cp:revision>
  <dc:subject/>
  <dc:title>PowerPoint Presentation</dc:title>
</cp:coreProperties>
</file>