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7.jpeg" ContentType="image/jpeg"/>
  <Override PartName="/ppt/media/image11.png" ContentType="image/png"/>
  <Override PartName="/ppt/media/image8.jpeg" ContentType="image/jpeg"/>
  <Override PartName="/ppt/media/image13.jpeg" ContentType="image/jpeg"/>
  <Override PartName="/ppt/media/image9.png" ContentType="image/png"/>
  <Override PartName="/ppt/media/image10.png" ContentType="image/pn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65b2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210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03600"/>
            <a:ext cx="8229600" cy="210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65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10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10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03600"/>
            <a:ext cx="4015800" cy="210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03600"/>
            <a:ext cx="4015800" cy="210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65b2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2649600" cy="210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294920"/>
            <a:ext cx="2649600" cy="210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294920"/>
            <a:ext cx="2649600" cy="210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03600"/>
            <a:ext cx="2649600" cy="210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03600"/>
            <a:ext cx="2649600" cy="210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03600"/>
            <a:ext cx="2649600" cy="210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65b2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2949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65b2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65b2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65b2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52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65b2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10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03600"/>
            <a:ext cx="4015800" cy="210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65b2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2949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65b2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10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03600"/>
            <a:ext cx="4015800" cy="210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65b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10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10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03600"/>
            <a:ext cx="8229600" cy="210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65b2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210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03600"/>
            <a:ext cx="8229600" cy="210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65b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10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10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03600"/>
            <a:ext cx="4015800" cy="210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03600"/>
            <a:ext cx="4015800" cy="210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65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2649600" cy="210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294920"/>
            <a:ext cx="2649600" cy="210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294920"/>
            <a:ext cx="2649600" cy="210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03600"/>
            <a:ext cx="2649600" cy="210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03600"/>
            <a:ext cx="2649600" cy="210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03600"/>
            <a:ext cx="2649600" cy="210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65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65b2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65b2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38052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65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10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03600"/>
            <a:ext cx="4015800" cy="210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65b2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10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03600"/>
            <a:ext cx="4015800" cy="210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65b2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10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10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03600"/>
            <a:ext cx="8229600" cy="210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228600" y="228600"/>
            <a:ext cx="8686800" cy="5715000"/>
          </a:xfrm>
          <a:prstGeom prst="roundRect">
            <a:avLst>
              <a:gd name="adj" fmla="val 1847"/>
            </a:avLst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457200" y="12949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65b2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365b2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574560" y="6027840"/>
            <a:ext cx="727200" cy="776160"/>
          </a:xfrm>
          <a:prstGeom prst="rect">
            <a:avLst/>
          </a:prstGeom>
          <a:ln w="0">
            <a:noFill/>
          </a:ln>
        </p:spPr>
      </p:pic>
      <p:pic>
        <p:nvPicPr>
          <p:cNvPr id="5" name="" descr=""/>
          <p:cNvPicPr/>
          <p:nvPr/>
        </p:nvPicPr>
        <p:blipFill>
          <a:blip r:embed="rId4"/>
          <a:stretch/>
        </p:blipFill>
        <p:spPr>
          <a:xfrm>
            <a:off x="7580160" y="6026040"/>
            <a:ext cx="954360" cy="777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574560" y="5770440"/>
            <a:ext cx="941400" cy="10051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7427880" y="5770440"/>
            <a:ext cx="1233360" cy="100512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65b2"/>
                </a:solidFill>
                <a:latin typeface="Arial"/>
              </a:rPr>
              <a:t>Steps for Embedding</a:t>
            </a:r>
            <a:endParaRPr b="0" lang="en-US" sz="3200" spc="-1" strike="noStrike">
              <a:solidFill>
                <a:srgbClr val="0365b2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228600" y="990720"/>
            <a:ext cx="3571920" cy="405756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1752480" y="990720"/>
            <a:ext cx="5486400" cy="1523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828800" y="1066680"/>
            <a:ext cx="693432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17320" indent="-517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 up to “Insert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7320" indent="-517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 to “Movies and Sound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7320" indent="-517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“Movie from File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7320" indent="-517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owse for your downloaded movie… click “OK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7320" indent="-517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oose “Automatically” or “When Clicked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3733920" y="2590920"/>
            <a:ext cx="5410080" cy="41148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228600" y="5257800"/>
            <a:ext cx="3781440" cy="13622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228600" y="3657600"/>
            <a:ext cx="1600200" cy="2286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828800" y="3886200"/>
            <a:ext cx="1905120" cy="2286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8229600" y="6095880"/>
            <a:ext cx="838080" cy="2286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990720" y="6324480"/>
            <a:ext cx="2209680" cy="2286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rot="18290400">
            <a:off x="914040" y="3123720"/>
            <a:ext cx="762120" cy="304920"/>
          </a:xfrm>
          <a:prstGeom prst="leftArrow">
            <a:avLst>
              <a:gd name="adj1" fmla="val 50000"/>
              <a:gd name="adj2" fmla="val 6248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9480" y="914400"/>
            <a:ext cx="762120" cy="304920"/>
          </a:xfrm>
          <a:prstGeom prst="leftArrow">
            <a:avLst>
              <a:gd name="adj1" fmla="val 50000"/>
              <a:gd name="adj2" fmla="val 6248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18290400">
            <a:off x="2285640" y="3428640"/>
            <a:ext cx="762120" cy="304920"/>
          </a:xfrm>
          <a:prstGeom prst="leftArrow">
            <a:avLst>
              <a:gd name="adj1" fmla="val 50000"/>
              <a:gd name="adj2" fmla="val 6248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16200000">
            <a:off x="8229600" y="5486040"/>
            <a:ext cx="762120" cy="304920"/>
          </a:xfrm>
          <a:prstGeom prst="leftArrow">
            <a:avLst>
              <a:gd name="adj1" fmla="val 50000"/>
              <a:gd name="adj2" fmla="val 6248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16200000">
            <a:off x="1752480" y="5714640"/>
            <a:ext cx="762120" cy="304920"/>
          </a:xfrm>
          <a:prstGeom prst="leftArrow">
            <a:avLst>
              <a:gd name="adj1" fmla="val 50000"/>
              <a:gd name="adj2" fmla="val 6248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65b2"/>
                </a:solidFill>
                <a:latin typeface="Arial"/>
              </a:rPr>
              <a:t>Embedding by Inserting the Movie Player</a:t>
            </a:r>
            <a:endParaRPr b="0" lang="en-US" sz="3200" spc="-1" strike="noStrike">
              <a:solidFill>
                <a:srgbClr val="0365b2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819520" y="1066320"/>
            <a:ext cx="175248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ert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ect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1219320"/>
            <a:ext cx="2068560" cy="46479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2514600" y="2133720"/>
            <a:ext cx="4695840" cy="2666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1" name="WindowsMediaPlayer1"/>
          <p:cNvGraphicFramePr/>
          <p:nvPr/>
        </p:nvGraphicFramePr>
        <p:xfrm>
          <a:off x="5943600" y="3886200"/>
          <a:ext cx="2895480" cy="2133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2" name="WindowsMediaPlayer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943600" y="3886200"/>
                    <a:ext cx="2895480" cy="21337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03" name=""/>
          <p:cNvSpPr/>
          <p:nvPr/>
        </p:nvSpPr>
        <p:spPr>
          <a:xfrm>
            <a:off x="4952880" y="1066680"/>
            <a:ext cx="381024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 fontScale="91000"/>
          </a:bodyPr>
          <a:p>
            <a:pPr marL="415800" indent="-415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croll all the way down and select “Windows Media Player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33520" y="5334120"/>
            <a:ext cx="1904760" cy="2286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" y="1219320"/>
            <a:ext cx="609480" cy="3045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581280" y="3352680"/>
            <a:ext cx="2438640" cy="3049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172200" y="2438280"/>
            <a:ext cx="1066680" cy="2286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65b2"/>
                </a:solidFill>
                <a:latin typeface="Arial"/>
              </a:rPr>
              <a:t>Inserting Movie Player… Continued</a:t>
            </a:r>
            <a:endParaRPr b="0" lang="en-US" sz="3200" spc="-1" strike="noStrike">
              <a:solidFill>
                <a:srgbClr val="0365b2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380880" y="990720"/>
            <a:ext cx="3106800" cy="327636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152280" y="3429000"/>
            <a:ext cx="2590920" cy="39625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 flipH="1">
            <a:off x="6019920" y="2514600"/>
            <a:ext cx="682560" cy="14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659560" y="2438280"/>
            <a:ext cx="204840" cy="1890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4381560" y="2895480"/>
            <a:ext cx="4457520" cy="3962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7848720" y="3581280"/>
            <a:ext cx="761760" cy="3812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648320" y="5257800"/>
            <a:ext cx="1066680" cy="2286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553080" y="6553080"/>
            <a:ext cx="685800" cy="2286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133720" y="990720"/>
            <a:ext cx="2438280" cy="12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495680" y="990720"/>
            <a:ext cx="3962520" cy="190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495680" y="1066680"/>
            <a:ext cx="42674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 fontScale="30000"/>
          </a:bodyPr>
          <a:p>
            <a:pPr marL="159840" indent="-159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ick “Custom” and “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59840" indent="-159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rowse” for your selected mov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59840" indent="-159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ncheck “Auto Start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59840" indent="-159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heck “Stretch to fit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59840" indent="-159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ick “OK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209680" y="1066320"/>
            <a:ext cx="2286000" cy="838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ght click on play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“Proper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648320" y="5029200"/>
            <a:ext cx="1066680" cy="2286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438280" y="3886200"/>
            <a:ext cx="304920" cy="2286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04920" y="3886200"/>
            <a:ext cx="1143000" cy="2286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4724280" y="5105520"/>
            <a:ext cx="76320" cy="75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30600" bIns="30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981080" y="2743200"/>
            <a:ext cx="1524240" cy="2286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65b2"/>
                </a:solidFill>
                <a:latin typeface="Arial"/>
              </a:rPr>
              <a:t>Hyperlinking</a:t>
            </a:r>
            <a:endParaRPr b="0" lang="en-US" sz="3200" spc="-1" strike="noStrike">
              <a:solidFill>
                <a:srgbClr val="0365b2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380880" y="990720"/>
          <a:ext cx="8382240" cy="4903560"/>
        </p:xfrm>
        <a:graphic>
          <a:graphicData uri="http://schemas.openxmlformats.org/drawingml/2006/table">
            <a:tbl>
              <a:tblPr/>
              <a:tblGrid>
                <a:gridCol w="4114800"/>
                <a:gridCol w="4267440"/>
              </a:tblGrid>
              <a:tr h="1133280">
                <a:tc>
                  <a:txBody>
                    <a:bodyPr anchor="t">
                      <a:noAutofit/>
                    </a:bodyPr>
                    <a:p>
                      <a:pPr marL="457200" indent="-457200"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ＭＳ Ｐゴシック"/>
                        </a:rPr>
                        <a:t>T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457200"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Type t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457200"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Highlight t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anchor="t">
                      <a:noAutofit/>
                    </a:bodyPr>
                    <a:p>
                      <a:pPr marL="457200" indent="-457200"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ＭＳ Ｐゴシック"/>
                        </a:rPr>
                        <a:t>Hyperlinking Step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457200"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Click “Insert”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457200"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“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Hyperlink”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457200"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Choose “Place in this document” or “Existing File”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45720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457200"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ＭＳ Ｐゴシック"/>
                        </a:rPr>
                        <a:t>Short C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457200"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Rt Click on obje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457200"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“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Hyperlink”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5000">
                <a:tc>
                  <a:txBody>
                    <a:bodyPr anchor="t">
                      <a:noAutofit/>
                    </a:bodyPr>
                    <a:p>
                      <a:pPr marL="457200" indent="-457200"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ＭＳ Ｐゴシック"/>
                        </a:rPr>
                        <a:t>Imag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457200"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Click on ima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79600">
                <a:tc>
                  <a:txBody>
                    <a:bodyPr anchor="t">
                      <a:noAutofit/>
                    </a:bodyPr>
                    <a:p>
                      <a:pPr marL="457200" indent="-457200"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ＭＳ Ｐゴシック"/>
                        </a:rPr>
                        <a:t>Invisible Box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457200"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Select “Auto Shapes” from bottom tool b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457200"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Choose desired shap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457200"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Draw shap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457200"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Follow hyperlinking step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457200"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Rt Click on Shape and chose “no line” and “no fill”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7448400" y="2971800"/>
            <a:ext cx="1619280" cy="37908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7391520" y="2971800"/>
            <a:ext cx="609480" cy="2286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467480" y="6477120"/>
            <a:ext cx="1676520" cy="2286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65b2"/>
                </a:solidFill>
                <a:latin typeface="Arial"/>
              </a:rPr>
              <a:t>Hyperlinking… continued</a:t>
            </a:r>
            <a:endParaRPr b="0" lang="en-US" sz="3200" spc="-1" strike="noStrike">
              <a:solidFill>
                <a:srgbClr val="0365b2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304920" y="990720"/>
            <a:ext cx="5562360" cy="29779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304920" y="3962520"/>
            <a:ext cx="5562360" cy="29160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4267080" y="3657600"/>
            <a:ext cx="762120" cy="2286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267080" y="6553080"/>
            <a:ext cx="762120" cy="2286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0880" y="1447920"/>
            <a:ext cx="762120" cy="6094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80880" y="4419720"/>
            <a:ext cx="762120" cy="6094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943600" y="1066680"/>
            <a:ext cx="2743200" cy="49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343080" indent="-343080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Existing File or WebP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this option when you want to link directly to a movie, sound file, or websi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Place in this docu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this option when you want to link to another slide in your 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65b2"/>
                </a:solidFill>
                <a:latin typeface="Arial"/>
              </a:rPr>
              <a:t>Important Terms</a:t>
            </a:r>
            <a:endParaRPr b="0" lang="en-US" sz="3200" spc="-1" strike="noStrike">
              <a:solidFill>
                <a:srgbClr val="0365b2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33520" y="1066680"/>
            <a:ext cx="815328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46dbf"/>
                </a:solidFill>
                <a:latin typeface="Arial"/>
                <a:ea typeface="ＭＳ Ｐゴシック"/>
              </a:rPr>
              <a:t>Embedding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= placing a document, video, sound, image, etc within the framework of your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dvanta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– looks pretty, you stay within your 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sadvanta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– lose ability to fast forward and rewi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46dbf"/>
                </a:solidFill>
                <a:latin typeface="Arial"/>
                <a:ea typeface="ＭＳ Ｐゴシック"/>
              </a:rPr>
              <a:t>Hyperlink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= linking to a website, video, document or slide that is different or outside of  your current 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dvanta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– fast forward/rewind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sadvanta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– opens a different window, you leave your 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29T16:14:03Z</dcterms:created>
  <dc:creator>Scott Kinney</dc:creator>
  <dc:description/>
  <dc:language>en-US</dc:language>
  <cp:lastModifiedBy>jdemian</cp:lastModifiedBy>
  <dcterms:modified xsi:type="dcterms:W3CDTF">2009-01-26T17:14:58Z</dcterms:modified>
  <cp:revision>159</cp:revision>
  <dc:subject/>
  <dc:title>Overview for Presenter: DELETE or HIDE this slide</dc:title>
</cp:coreProperties>
</file>